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3D43-8F17-4A66-B1F2-CD38208B2BA5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60A6-7A5E-40AA-8C29-F0E6E4BFD49A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8206-EE40-43B9-AC3F-87549063C02B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E3BC-7592-4CBD-9130-5D3B3F262EC3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3E35-5663-40E1-982C-030B70B12DDB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66B0-EF8E-475B-A241-16653041A806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B79C-F260-48DF-8F30-D2EF27E68FB8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FD02-CBC7-49D5-86FB-11B230FF0D30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270A-5CAE-4C6B-9A47-80239175B317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0332-19C4-4305-88BC-BE3D6CB8BB85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4451-C977-4633-B1E3-4229051CA8ED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F999-905C-4DF0-B65C-AD99C5759D5A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36C01-64DD-48F7-9FA1-7CE687045C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40EA9-3F05-49DD-A3F5-D5222AB73B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52BF6-6DB4-474B-968D-B0C0785CEC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A2BEA-8E5B-418D-AD33-013700770E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A1211-EB23-4280-A934-EFBF3F6B91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0625F-B5A3-4EFA-A78D-006F2C7CB2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8CBC4-D859-4C10-9320-30BBEF17C7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8EDCD-958E-4F0C-86F0-EC63679C4B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3C7EB-8714-4708-AD04-D7AA8823E7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F700F-6F95-497B-82F4-08FF3A611E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144D9-03E3-406D-A113-AC2705B984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82BCB-C418-4E0D-BA5F-3ED76C0522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7B54-E2F0-42DE-A33E-0A3894945C6A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BC85-D7B9-43FE-AB79-917EBF05DE2E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6669000"/>
            <a:ext cx="91440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d.:Vía Lác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gradFill rotWithShape="0">
            <a:gsLst>
              <a:gs pos="0">
                <a:srgbClr val="f4fafa"/>
              </a:gs>
              <a:gs pos="100000">
                <a:srgbClr val="ffeb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QUILIBRIOS RED –OX                                      Exerc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6000" spc="-1" strike="noStrike">
                <a:solidFill>
                  <a:srgbClr val="000000"/>
                </a:solidFill>
                <a:latin typeface="Arial"/>
              </a:rPr>
              <a:t>Reaccións de oxidación-reducci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g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 oxídase a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C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3564000" y="2565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250920" y="4791240"/>
            <a:ext cx="504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C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971640" y="5734080"/>
            <a:ext cx="36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C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4500720" y="30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536400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615636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45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9500"/>
                            </p:stCondLst>
                            <p:childTnLst>
                              <p:par>
                                <p:cTn id="5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15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385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43500"/>
                            </p:stCondLst>
                            <p:childTnLst>
                              <p:par>
                                <p:cTn id="54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550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25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7500"/>
                            </p:stCondLst>
                            <p:childTnLst>
                              <p:par>
                                <p:cTn id="5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5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75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7500"/>
                            </p:stCondLst>
                            <p:childTnLst>
                              <p:par>
                                <p:cTn id="5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95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65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350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7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35500"/>
                            </p:stCondLst>
                            <p:childTnLst>
                              <p:par>
                                <p:cTn id="59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350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43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h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I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7"/>
          <p:cNvSpPr/>
          <p:nvPr/>
        </p:nvSpPr>
        <p:spPr>
          <a:xfrm>
            <a:off x="250920" y="4357800"/>
            <a:ext cx="590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0"/>
          <p:cNvSpPr/>
          <p:nvPr/>
        </p:nvSpPr>
        <p:spPr>
          <a:xfrm>
            <a:off x="2843280" y="256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1"/>
          <p:cNvSpPr/>
          <p:nvPr/>
        </p:nvSpPr>
        <p:spPr>
          <a:xfrm>
            <a:off x="250920" y="4791240"/>
            <a:ext cx="504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971640" y="5734080"/>
            <a:ext cx="36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I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442764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75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9500"/>
                            </p:stCondLst>
                            <p:childTnLst>
                              <p:par>
                                <p:cTn id="63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315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38500"/>
                            </p:stCondLst>
                            <p:childTnLst>
                              <p:par>
                                <p:cTn id="64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43500"/>
                            </p:stCondLst>
                            <p:childTnLst>
                              <p:par>
                                <p:cTn id="6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455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250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7500"/>
                            </p:stCondLst>
                            <p:childTnLst>
                              <p:par>
                                <p:cTn id="6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750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500"/>
                            </p:stCondLst>
                            <p:childTnLst>
                              <p:par>
                                <p:cTn id="6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7500"/>
                            </p:stCondLst>
                            <p:childTnLst>
                              <p:par>
                                <p:cTn id="67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20500"/>
                            </p:stCondLst>
                            <p:childTnLst>
                              <p:par>
                                <p:cTn id="6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25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6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345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42500"/>
                            </p:stCondLst>
                            <p:childTnLst>
                              <p:par>
                                <p:cTn id="6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2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i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468360" y="156384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nitróx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3203640" y="105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924360" y="1052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457200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50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7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4500"/>
                            </p:stCondLst>
                            <p:childTnLst>
                              <p:par>
                                <p:cTn id="7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9500"/>
                            </p:stCondLst>
                            <p:childTnLst>
                              <p:par>
                                <p:cTn id="7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15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385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43500"/>
                            </p:stCondLst>
                            <p:childTnLst>
                              <p:par>
                                <p:cTn id="7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4550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2500"/>
                            </p:stCondLst>
                            <p:childTnLst>
                              <p:par>
                                <p:cTn id="74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7500"/>
                            </p:stCondLst>
                            <p:childTnLst>
                              <p:par>
                                <p:cTn id="74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95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6450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67500"/>
                            </p:stCondLst>
                            <p:childTnLst>
                              <p:par>
                                <p:cTn id="7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7500"/>
                            </p:stCondLst>
                            <p:childTnLst>
                              <p:par>
                                <p:cTn id="7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7500"/>
                            </p:stCondLst>
                            <p:childTnLst>
                              <p:par>
                                <p:cTn id="7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7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95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15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9500"/>
                            </p:stCondLst>
                            <p:childTnLst>
                              <p:par>
                                <p:cTn id="79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k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39640" y="155736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4284720" y="162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3924360" y="1052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3"/>
          <p:cNvSpPr/>
          <p:nvPr/>
        </p:nvSpPr>
        <p:spPr>
          <a:xfrm>
            <a:off x="53820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50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7500"/>
                            </p:stCondLst>
                            <p:childTnLst>
                              <p:par>
                                <p:cTn id="8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4500"/>
                            </p:stCondLst>
                            <p:childTnLst>
                              <p:par>
                                <p:cTn id="81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9500"/>
                            </p:stCondLst>
                            <p:childTnLst>
                              <p:par>
                                <p:cTn id="8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315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8500"/>
                            </p:stCondLst>
                            <p:childTnLst>
                              <p:par>
                                <p:cTn id="8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43500"/>
                            </p:stCondLst>
                            <p:childTnLst>
                              <p:par>
                                <p:cTn id="8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455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500"/>
                            </p:stCondLst>
                            <p:childTnLst>
                              <p:par>
                                <p:cTn id="83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3500"/>
                            </p:stCondLst>
                            <p:childTnLst>
                              <p:par>
                                <p:cTn id="8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500"/>
                            </p:stCondLst>
                            <p:childTnLst>
                              <p:par>
                                <p:cTn id="8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7500"/>
                            </p:stCondLst>
                            <p:childTnLst>
                              <p:par>
                                <p:cTn id="8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7500"/>
                            </p:stCondLst>
                            <p:childTnLst>
                              <p:par>
                                <p:cTn id="8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9500"/>
                            </p:stCondLst>
                            <p:childTnLst>
                              <p:par>
                                <p:cTn id="86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1500"/>
                            </p:stCondLst>
                            <p:childTnLst>
                              <p:par>
                                <p:cTn id="87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9500"/>
                            </p:stCondLst>
                            <p:childTnLst>
                              <p:par>
                                <p:cTn id="87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l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Zn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oxídase a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611280" y="155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4572000" y="155736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6516720" y="1052640"/>
            <a:ext cx="12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3"/>
          <p:cNvSpPr/>
          <p:nvPr/>
        </p:nvSpPr>
        <p:spPr>
          <a:xfrm>
            <a:off x="3924360" y="1052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Zn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Zn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3"/>
          <p:cNvSpPr/>
          <p:nvPr/>
        </p:nvSpPr>
        <p:spPr>
          <a:xfrm>
            <a:off x="61128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0"/>
                            </p:stCondLst>
                            <p:childTnLst>
                              <p:par>
                                <p:cTn id="89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89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7500"/>
                            </p:stCondLst>
                            <p:childTnLst>
                              <p:par>
                                <p:cTn id="89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45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29500"/>
                            </p:stCondLst>
                            <p:childTnLst>
                              <p:par>
                                <p:cTn id="9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31500"/>
                            </p:stCondLst>
                            <p:childTnLst>
                              <p:par>
                                <p:cTn id="90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3850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43500"/>
                            </p:stCondLst>
                            <p:childTnLst>
                              <p:par>
                                <p:cTn id="9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455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500"/>
                            </p:stCondLst>
                            <p:childTnLst>
                              <p:par>
                                <p:cTn id="92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3500"/>
                            </p:stCondLst>
                            <p:childTnLst>
                              <p:par>
                                <p:cTn id="9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2500"/>
                            </p:stCondLst>
                            <p:childTnLst>
                              <p:par>
                                <p:cTn id="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7500"/>
                            </p:stCondLst>
                            <p:childTnLst>
                              <p:par>
                                <p:cTn id="9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7500"/>
                            </p:stCondLst>
                            <p:childTnLst>
                              <p:par>
                                <p:cTn id="9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5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9500"/>
                            </p:stCondLst>
                            <p:childTnLst>
                              <p:par>
                                <p:cTn id="94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3500"/>
                            </p:stCondLst>
                            <p:childTnLst>
                              <p:par>
                                <p:cTn id="95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150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9500"/>
                            </p:stCondLst>
                            <p:childTnLst>
                              <p:par>
                                <p:cTn id="9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29500"/>
                            </p:stCondLst>
                            <p:childTnLst>
                              <p:par>
                                <p:cTn id="96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m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665964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4138560" y="2565360"/>
            <a:ext cx="172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,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lo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3852720" y="25574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250920" y="4791240"/>
            <a:ext cx="655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Cl-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2"/>
          <p:cNvSpPr/>
          <p:nvPr/>
        </p:nvSpPr>
        <p:spPr>
          <a:xfrm>
            <a:off x="971640" y="573408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KCl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6"/>
          <p:cNvSpPr/>
          <p:nvPr/>
        </p:nvSpPr>
        <p:spPr>
          <a:xfrm>
            <a:off x="5508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0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0"/>
                            </p:stCondLst>
                            <p:childTnLst>
                              <p:par>
                                <p:cTn id="97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9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98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9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1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31500"/>
                            </p:stCondLst>
                            <p:childTnLst>
                              <p:par>
                                <p:cTn id="9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99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1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0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0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1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7500"/>
                            </p:stCondLst>
                            <p:childTnLst>
                              <p:par>
                                <p:cTn id="102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9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3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9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04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4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345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5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5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n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I + H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(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468360" y="15638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6300720" y="10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7020000" y="1052640"/>
            <a:ext cx="12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3"/>
          <p:cNvSpPr/>
          <p:nvPr/>
        </p:nvSpPr>
        <p:spPr>
          <a:xfrm>
            <a:off x="3995640" y="1052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súmase a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0"/>
          <p:cNvSpPr/>
          <p:nvPr/>
        </p:nvSpPr>
        <p:spPr>
          <a:xfrm>
            <a:off x="298764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1"/>
          <p:cNvSpPr/>
          <p:nvPr/>
        </p:nvSpPr>
        <p:spPr>
          <a:xfrm>
            <a:off x="250920" y="4791240"/>
            <a:ext cx="554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4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2"/>
          <p:cNvSpPr/>
          <p:nvPr/>
        </p:nvSpPr>
        <p:spPr>
          <a:xfrm>
            <a:off x="971640" y="5734080"/>
            <a:ext cx="698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I + 8 H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(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K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6"/>
          <p:cNvSpPr/>
          <p:nvPr/>
        </p:nvSpPr>
        <p:spPr>
          <a:xfrm>
            <a:off x="4500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7"/>
          <p:cNvSpPr/>
          <p:nvPr/>
        </p:nvSpPr>
        <p:spPr>
          <a:xfrm>
            <a:off x="450072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8"/>
          <p:cNvSpPr/>
          <p:nvPr/>
        </p:nvSpPr>
        <p:spPr>
          <a:xfrm>
            <a:off x="4932360" y="105264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0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5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8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0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38500"/>
                            </p:stCondLst>
                            <p:childTnLst>
                              <p:par>
                                <p:cTn id="10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5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10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7500"/>
                            </p:stCondLst>
                            <p:childTnLst>
                              <p:par>
                                <p:cTn id="11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5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59500"/>
                            </p:stCondLst>
                            <p:childTnLst>
                              <p:par>
                                <p:cTn id="1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64500"/>
                            </p:stCondLst>
                            <p:childTnLst>
                              <p:par>
                                <p:cTn id="11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67500"/>
                            </p:stCondLst>
                            <p:childTnLst>
                              <p:par>
                                <p:cTn id="11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5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3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5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3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3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4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4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5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34500"/>
                            </p:stCondLst>
                            <p:childTnLst>
                              <p:par>
                                <p:cTn id="115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42500"/>
                            </p:stCondLst>
                            <p:childTnLst>
                              <p:par>
                                <p:cTn id="1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42500"/>
                            </p:stCondLst>
                            <p:childTnLst>
                              <p:par>
                                <p:cTn id="11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ñ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468360" y="155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3"/>
          <p:cNvSpPr/>
          <p:nvPr/>
        </p:nvSpPr>
        <p:spPr>
          <a:xfrm>
            <a:off x="3852720" y="1052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1"/>
          <p:cNvSpPr/>
          <p:nvPr/>
        </p:nvSpPr>
        <p:spPr>
          <a:xfrm>
            <a:off x="2916360" y="5734080"/>
            <a:ext cx="48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3"/>
          <p:cNvSpPr/>
          <p:nvPr/>
        </p:nvSpPr>
        <p:spPr>
          <a:xfrm>
            <a:off x="457200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4788000" y="1052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0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5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8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8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38500"/>
                            </p:stCondLst>
                            <p:childTnLst>
                              <p:par>
                                <p:cTn id="119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43500"/>
                            </p:stCondLst>
                            <p:childTnLst>
                              <p:par>
                                <p:cTn id="11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45500"/>
                            </p:stCondLst>
                            <p:childTnLst>
                              <p:par>
                                <p:cTn id="1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50500"/>
                            </p:stCondLst>
                            <p:childTnLst>
                              <p:par>
                                <p:cTn id="120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53500"/>
                            </p:stCondLst>
                            <p:childTnLst>
                              <p:par>
                                <p:cTn id="12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9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5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7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9500"/>
                            </p:stCondLst>
                            <p:childTnLst>
                              <p:par>
                                <p:cTn id="122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3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4" dur="5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21500"/>
                            </p:stCondLst>
                            <p:childTnLst>
                              <p:par>
                                <p:cTn id="123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5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4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5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o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I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468360" y="15638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1"/>
          <p:cNvSpPr/>
          <p:nvPr/>
        </p:nvSpPr>
        <p:spPr>
          <a:xfrm>
            <a:off x="6227640" y="10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7093080" y="1052640"/>
            <a:ext cx="115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4067280" y="10526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5"/>
          <p:cNvSpPr/>
          <p:nvPr/>
        </p:nvSpPr>
        <p:spPr>
          <a:xfrm>
            <a:off x="3203640" y="2565360"/>
            <a:ext cx="208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súmase a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7"/>
          <p:cNvSpPr/>
          <p:nvPr/>
        </p:nvSpPr>
        <p:spPr>
          <a:xfrm>
            <a:off x="250920" y="435780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0"/>
          <p:cNvSpPr/>
          <p:nvPr/>
        </p:nvSpPr>
        <p:spPr>
          <a:xfrm>
            <a:off x="298764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1"/>
          <p:cNvSpPr/>
          <p:nvPr/>
        </p:nvSpPr>
        <p:spPr>
          <a:xfrm>
            <a:off x="250920" y="4791240"/>
            <a:ext cx="576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2"/>
          <p:cNvSpPr/>
          <p:nvPr/>
        </p:nvSpPr>
        <p:spPr>
          <a:xfrm>
            <a:off x="971640" y="573408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KI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6"/>
          <p:cNvSpPr/>
          <p:nvPr/>
        </p:nvSpPr>
        <p:spPr>
          <a:xfrm>
            <a:off x="414036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7"/>
          <p:cNvSpPr/>
          <p:nvPr/>
        </p:nvSpPr>
        <p:spPr>
          <a:xfrm>
            <a:off x="442764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8"/>
          <p:cNvSpPr/>
          <p:nvPr/>
        </p:nvSpPr>
        <p:spPr>
          <a:xfrm>
            <a:off x="5003640" y="10526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0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9" dur="5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7" dur="5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24500"/>
                            </p:stCondLst>
                            <p:childTnLst>
                              <p:par>
                                <p:cTn id="126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3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315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38500"/>
                            </p:stCondLst>
                            <p:childTnLst>
                              <p:par>
                                <p:cTn id="12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43500"/>
                            </p:stCondLst>
                            <p:childTnLst>
                              <p:par>
                                <p:cTn id="12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3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45500"/>
                            </p:stCondLst>
                            <p:childTnLst>
                              <p:par>
                                <p:cTn id="1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7" dur="5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2500"/>
                            </p:stCondLst>
                            <p:childTnLst>
                              <p:par>
                                <p:cTn id="128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7500"/>
                            </p:stCondLst>
                            <p:childTnLst>
                              <p:par>
                                <p:cTn id="129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3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5" dur="5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7500"/>
                            </p:stCondLst>
                            <p:childTnLst>
                              <p:par>
                                <p:cTn id="130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1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5" dur="5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1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22500"/>
                            </p:stCondLst>
                            <p:childTnLst>
                              <p:par>
                                <p:cTn id="13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5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2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34500"/>
                            </p:stCondLst>
                            <p:childTnLst>
                              <p:par>
                                <p:cTn id="13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1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36500"/>
                            </p:stCondLst>
                            <p:childTnLst>
                              <p:par>
                                <p:cTn id="133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40500"/>
                            </p:stCondLst>
                            <p:childTnLst>
                              <p:par>
                                <p:cTn id="133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48500"/>
                            </p:stCondLst>
                            <p:childTnLst>
                              <p:par>
                                <p:cTn id="134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56500"/>
                            </p:stCondLst>
                            <p:childTnLst>
                              <p:par>
                                <p:cTn id="1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6500"/>
                            </p:stCondLst>
                            <p:childTnLst>
                              <p:par>
                                <p:cTn id="134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p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Fe + HCl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680400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4930920" y="1052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5"/>
          <p:cNvSpPr/>
          <p:nvPr/>
        </p:nvSpPr>
        <p:spPr>
          <a:xfrm>
            <a:off x="3203640" y="256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,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1"/>
          <p:cNvSpPr/>
          <p:nvPr/>
        </p:nvSpPr>
        <p:spPr>
          <a:xfrm>
            <a:off x="250920" y="4791240"/>
            <a:ext cx="81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2"/>
          <p:cNvSpPr/>
          <p:nvPr/>
        </p:nvSpPr>
        <p:spPr>
          <a:xfrm>
            <a:off x="971640" y="5734080"/>
            <a:ext cx="698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5 Fe + 16 HCl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5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KCl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39640" y="2997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457200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0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5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3" dur="5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6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1" dur="5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24500"/>
                            </p:stCondLst>
                            <p:childTnLst>
                              <p:par>
                                <p:cTn id="137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7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31500"/>
                            </p:stCondLst>
                            <p:childTnLst>
                              <p:par>
                                <p:cTn id="13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1" dur="5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38500"/>
                            </p:stCondLst>
                            <p:childTnLst>
                              <p:par>
                                <p:cTn id="138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43500"/>
                            </p:stCondLst>
                            <p:childTnLst>
                              <p:par>
                                <p:cTn id="13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7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45500"/>
                            </p:stCondLst>
                            <p:childTnLst>
                              <p:par>
                                <p:cTn id="13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1" dur="5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52500"/>
                            </p:stCondLst>
                            <p:childTnLst>
                              <p:par>
                                <p:cTn id="13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57500"/>
                            </p:stCondLst>
                            <p:childTnLst>
                              <p:par>
                                <p:cTn id="13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7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7500"/>
                            </p:stCondLst>
                            <p:childTnLst>
                              <p:par>
                                <p:cTn id="14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5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1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42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5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2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3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3" dur="5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.- Escribe a fórmula e indica o número de oxidación de cada elemento nos seguintes compostos ou ió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900000" y="1484280"/>
            <a:ext cx="6913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)   Perclorato de calcio ou tetraoxoclorato (VII)  de calcio  Ca(Cl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Ca . . . 2,    Cl. . . -7,   O. . . -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900000" y="2349360"/>
            <a:ext cx="7344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Ión carbonato ou ion trioxocarbonato (IV)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C. . . 4,   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900000" y="3078000"/>
            <a:ext cx="8064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Nitrito de aluminio ou trioxonitrato (V) de alumini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l(N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Al. . . 3,   N. . . -5,     O. . . -2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900000" y="4076640"/>
            <a:ext cx="7920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Dicromato de potasio ou heptaoxocromato ((VI) de potas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7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K. . . 1,     Cr. . . 6,  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900000" y="5013360"/>
            <a:ext cx="8136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Ion permanganato ou ion tetraoxomanganato (VI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Mn. . . 7,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900000" y="5877000"/>
            <a:ext cx="8137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Hidróxido de ferro (III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Fe. . . 3,    O. . . -2,   H. . .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q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 + H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622764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2"/>
          <p:cNvSpPr/>
          <p:nvPr/>
        </p:nvSpPr>
        <p:spPr>
          <a:xfrm>
            <a:off x="39243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4643280" y="1052640"/>
            <a:ext cx="8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5"/>
          <p:cNvSpPr/>
          <p:nvPr/>
        </p:nvSpPr>
        <p:spPr>
          <a:xfrm>
            <a:off x="3203640" y="2565360"/>
            <a:ext cx="34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a 1ª por dez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17928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 + 20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6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6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0"/>
          <p:cNvSpPr/>
          <p:nvPr/>
        </p:nvSpPr>
        <p:spPr>
          <a:xfrm>
            <a:off x="5148360" y="2565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1"/>
          <p:cNvSpPr/>
          <p:nvPr/>
        </p:nvSpPr>
        <p:spPr>
          <a:xfrm>
            <a:off x="250920" y="4791240"/>
            <a:ext cx="8066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6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2"/>
          <p:cNvSpPr/>
          <p:nvPr/>
        </p:nvSpPr>
        <p:spPr>
          <a:xfrm>
            <a:off x="971640" y="573408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+ 6 H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3"/>
          <p:cNvSpPr/>
          <p:nvPr/>
        </p:nvSpPr>
        <p:spPr>
          <a:xfrm>
            <a:off x="4714920" y="314172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4"/>
          <p:cNvSpPr/>
          <p:nvPr/>
        </p:nvSpPr>
        <p:spPr>
          <a:xfrm>
            <a:off x="3492360" y="2565360"/>
            <a:ext cx="136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5"/>
          <p:cNvSpPr/>
          <p:nvPr/>
        </p:nvSpPr>
        <p:spPr>
          <a:xfrm>
            <a:off x="539640" y="34290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6"/>
          <p:cNvSpPr/>
          <p:nvPr/>
        </p:nvSpPr>
        <p:spPr>
          <a:xfrm>
            <a:off x="4714920" y="342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7"/>
          <p:cNvSpPr/>
          <p:nvPr/>
        </p:nvSpPr>
        <p:spPr>
          <a:xfrm>
            <a:off x="5867280" y="2565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8"/>
          <p:cNvSpPr/>
          <p:nvPr/>
        </p:nvSpPr>
        <p:spPr>
          <a:xfrm>
            <a:off x="6732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4" dur="indefinite" restart="never" nodeType="tmRoot">
          <p:childTnLst>
            <p:seq>
              <p:cTn id="1435" dur="indefinite" nodeType="mainSeq">
                <p:childTnLst>
                  <p:par>
                    <p:cTn id="1436" fill="hold">
                      <p:stCondLst>
                        <p:cond delay="0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5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7" dur="5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5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5" dur="5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5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4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61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31500"/>
                            </p:stCondLst>
                            <p:childTnLst>
                              <p:par>
                                <p:cTn id="14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5" dur="5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38500"/>
                            </p:stCondLst>
                            <p:childTnLst>
                              <p:par>
                                <p:cTn id="14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47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1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4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5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47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48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1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3" dur="5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7500"/>
                            </p:stCondLst>
                            <p:childTnLst>
                              <p:par>
                                <p:cTn id="149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9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3" dur="5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0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5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9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3" dur="5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7" dur="5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32500"/>
                            </p:stCondLst>
                            <p:childTnLst>
                              <p:par>
                                <p:cTn id="15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35500"/>
                            </p:stCondLst>
                            <p:childTnLst>
                              <p:par>
                                <p:cTn id="15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37500"/>
                            </p:stCondLst>
                            <p:childTnLst>
                              <p:par>
                                <p:cTn id="152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40500"/>
                            </p:stCondLst>
                            <p:childTnLst>
                              <p:par>
                                <p:cTn id="15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9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42500"/>
                            </p:stCondLst>
                            <p:childTnLst>
                              <p:par>
                                <p:cTn id="153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46500"/>
                            </p:stCondLst>
                            <p:childTnLst>
                              <p:par>
                                <p:cTn id="153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6" dur="5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54500"/>
                            </p:stCondLst>
                            <p:childTnLst>
                              <p:par>
                                <p:cTn id="15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0" dur="5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4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7" dur="5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r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3"/>
          <p:cNvSpPr/>
          <p:nvPr/>
        </p:nvSpPr>
        <p:spPr>
          <a:xfrm>
            <a:off x="457200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05928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cinco, e a 2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7"/>
          <p:cNvSpPr/>
          <p:nvPr/>
        </p:nvSpPr>
        <p:spPr>
          <a:xfrm>
            <a:off x="179280" y="4357800"/>
            <a:ext cx="896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0"/>
          <p:cNvSpPr/>
          <p:nvPr/>
        </p:nvSpPr>
        <p:spPr>
          <a:xfrm>
            <a:off x="3635280" y="2565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1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2"/>
          <p:cNvSpPr/>
          <p:nvPr/>
        </p:nvSpPr>
        <p:spPr>
          <a:xfrm>
            <a:off x="971640" y="5734080"/>
            <a:ext cx="691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KCl + 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Cl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3"/>
          <p:cNvSpPr/>
          <p:nvPr/>
        </p:nvSpPr>
        <p:spPr>
          <a:xfrm>
            <a:off x="4500720" y="30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4"/>
          <p:cNvSpPr/>
          <p:nvPr/>
        </p:nvSpPr>
        <p:spPr>
          <a:xfrm>
            <a:off x="550692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6"/>
          <p:cNvSpPr/>
          <p:nvPr/>
        </p:nvSpPr>
        <p:spPr>
          <a:xfrm>
            <a:off x="629928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7"/>
          <p:cNvSpPr/>
          <p:nvPr/>
        </p:nvSpPr>
        <p:spPr>
          <a:xfrm>
            <a:off x="4211640" y="1557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8"/>
          <p:cNvSpPr/>
          <p:nvPr/>
        </p:nvSpPr>
        <p:spPr>
          <a:xfrm>
            <a:off x="3924360" y="1046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8" dur="indefinite" restart="never" nodeType="tmRoot">
          <p:childTnLst>
            <p:seq>
              <p:cTn id="1549" dur="indefinite" nodeType="mainSeq">
                <p:childTnLst>
                  <p:par>
                    <p:cTn id="1550" fill="hold">
                      <p:stCondLst>
                        <p:cond delay="0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7" dur="5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5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9" dur="5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57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5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5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9" dur="5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36500"/>
                            </p:stCondLst>
                            <p:childTnLst>
                              <p:par>
                                <p:cTn id="158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39500"/>
                            </p:stCondLst>
                            <p:childTnLst>
                              <p:par>
                                <p:cTn id="15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5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41500"/>
                            </p:stCondLst>
                            <p:childTnLst>
                              <p:par>
                                <p:cTn id="15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9" dur="5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48500"/>
                            </p:stCondLst>
                            <p:childTnLst>
                              <p:par>
                                <p:cTn id="15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53500"/>
                            </p:stCondLst>
                            <p:childTnLst>
                              <p:par>
                                <p:cTn id="15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5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7" dur="5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7500"/>
                            </p:stCondLst>
                            <p:childTnLst>
                              <p:par>
                                <p:cTn id="160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3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7" dur="5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6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23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7" dur="5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27500"/>
                            </p:stCondLst>
                            <p:childTnLst>
                              <p:par>
                                <p:cTn id="16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30500"/>
                            </p:stCondLst>
                            <p:childTnLst>
                              <p:par>
                                <p:cTn id="16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3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32500"/>
                            </p:stCondLst>
                            <p:childTnLst>
                              <p:par>
                                <p:cTn id="163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fill="hold">
                            <p:stCondLst>
                              <p:cond delay="36500"/>
                            </p:stCondLst>
                            <p:childTnLst>
                              <p:par>
                                <p:cTn id="16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0" dur="5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44500"/>
                            </p:stCondLst>
                            <p:childTnLst>
                              <p:par>
                                <p:cTn id="164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4" dur="5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4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1" dur="5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3.-O trioxonitrato (V) de hidróxeno reacciona co sulfuro de hidróxeno (gas) dando xofre e óxido de nitróxeno(II). 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Escribe e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395280" y="162720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4356000" y="1052640"/>
            <a:ext cx="432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  + 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971640" y="206064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3745080" y="1628640"/>
            <a:ext cx="514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8"/>
          <p:cNvSpPr/>
          <p:nvPr/>
        </p:nvSpPr>
        <p:spPr>
          <a:xfrm>
            <a:off x="395280" y="306864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oxídase a 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9"/>
          <p:cNvSpPr/>
          <p:nvPr/>
        </p:nvSpPr>
        <p:spPr>
          <a:xfrm>
            <a:off x="395280" y="2133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395280" y="2492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4572000" y="2492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3"/>
          <p:cNvSpPr/>
          <p:nvPr/>
        </p:nvSpPr>
        <p:spPr>
          <a:xfrm>
            <a:off x="7345440" y="1628640"/>
            <a:ext cx="93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4"/>
          <p:cNvSpPr/>
          <p:nvPr/>
        </p:nvSpPr>
        <p:spPr>
          <a:xfrm>
            <a:off x="4392720" y="1628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5"/>
          <p:cNvSpPr/>
          <p:nvPr/>
        </p:nvSpPr>
        <p:spPr>
          <a:xfrm>
            <a:off x="5327640" y="1628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6"/>
          <p:cNvSpPr/>
          <p:nvPr/>
        </p:nvSpPr>
        <p:spPr>
          <a:xfrm>
            <a:off x="826920" y="350208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7"/>
          <p:cNvSpPr/>
          <p:nvPr/>
        </p:nvSpPr>
        <p:spPr>
          <a:xfrm>
            <a:off x="3132000" y="3141720"/>
            <a:ext cx="16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8"/>
          <p:cNvSpPr/>
          <p:nvPr/>
        </p:nvSpPr>
        <p:spPr>
          <a:xfrm>
            <a:off x="250920" y="35719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9"/>
          <p:cNvSpPr/>
          <p:nvPr/>
        </p:nvSpPr>
        <p:spPr>
          <a:xfrm>
            <a:off x="4356000" y="36432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0"/>
          <p:cNvSpPr/>
          <p:nvPr/>
        </p:nvSpPr>
        <p:spPr>
          <a:xfrm>
            <a:off x="4716360" y="31399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1"/>
          <p:cNvSpPr/>
          <p:nvPr/>
        </p:nvSpPr>
        <p:spPr>
          <a:xfrm>
            <a:off x="5724360" y="31399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2"/>
          <p:cNvSpPr/>
          <p:nvPr/>
        </p:nvSpPr>
        <p:spPr>
          <a:xfrm>
            <a:off x="0" y="414828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por dous  a 1ª semireacción e por tres a 2ª e súman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3"/>
          <p:cNvSpPr/>
          <p:nvPr/>
        </p:nvSpPr>
        <p:spPr>
          <a:xfrm>
            <a:off x="250920" y="4579920"/>
            <a:ext cx="76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NO  +  3 S +  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4"/>
          <p:cNvSpPr/>
          <p:nvPr/>
        </p:nvSpPr>
        <p:spPr>
          <a:xfrm>
            <a:off x="250920" y="508464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NO  +  3 S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5"/>
          <p:cNvSpPr/>
          <p:nvPr/>
        </p:nvSpPr>
        <p:spPr>
          <a:xfrm>
            <a:off x="324000" y="558972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6"/>
          <p:cNvSpPr/>
          <p:nvPr/>
        </p:nvSpPr>
        <p:spPr>
          <a:xfrm>
            <a:off x="3708360" y="6093000"/>
            <a:ext cx="475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NO  +  3 S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fill="hold">
                      <p:stCondLst>
                        <p:cond delay="0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2" dur="5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4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5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6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4" dur="5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24500"/>
                            </p:stCondLst>
                            <p:childTnLst>
                              <p:par>
                                <p:cTn id="167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fill="hold">
                            <p:stCondLst>
                              <p:cond delay="29500"/>
                            </p:stCondLst>
                            <p:childTnLst>
                              <p:par>
                                <p:cTn id="167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0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31500"/>
                            </p:stCondLst>
                            <p:childTnLst>
                              <p:par>
                                <p:cTn id="168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4" dur="5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38500"/>
                            </p:stCondLst>
                            <p:childTnLst>
                              <p:par>
                                <p:cTn id="168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43500"/>
                            </p:stCondLst>
                            <p:childTnLst>
                              <p:par>
                                <p:cTn id="16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45500"/>
                            </p:stCondLst>
                            <p:childTnLst>
                              <p:par>
                                <p:cTn id="169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4" dur="5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9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fill="hold">
                            <p:stCondLst>
                              <p:cond delay="57500"/>
                            </p:stCondLst>
                            <p:childTnLst>
                              <p:par>
                                <p:cTn id="16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2" dur="5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9500"/>
                            </p:stCondLst>
                            <p:childTnLst>
                              <p:par>
                                <p:cTn id="171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8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2" dur="5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23500"/>
                            </p:stCondLst>
                            <p:childTnLst>
                              <p:par>
                                <p:cTn id="172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28500"/>
                            </p:stCondLst>
                            <p:childTnLst>
                              <p:par>
                                <p:cTn id="17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8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9" fill="hold">
                            <p:stCondLst>
                              <p:cond delay="30500"/>
                            </p:stCondLst>
                            <p:childTnLst>
                              <p:par>
                                <p:cTn id="173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fill="hold">
                            <p:stCondLst>
                              <p:cond delay="34500"/>
                            </p:stCondLst>
                            <p:childTnLst>
                              <p:par>
                                <p:cTn id="173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5" dur="5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42500"/>
                            </p:stCondLst>
                            <p:childTnLst>
                              <p:par>
                                <p:cTn id="173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9" dur="5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50500"/>
                            </p:stCondLst>
                            <p:childTnLst>
                              <p:par>
                                <p:cTn id="174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53500"/>
                            </p:stCondLst>
                            <p:childTnLst>
                              <p:par>
                                <p:cTn id="174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6" dur="5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3.-  b) Calcula o volume de sulfuro de hidróxeno a 50ºC e 1atm de presión necesario para reaccionar con 100 ml dunha disolución de ácido nítrico de concentración 0,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1835280" y="1484280"/>
            <a:ext cx="554508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NO  +  3S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ol           3 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0,01 mol    0,015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25"/>
              <p:cNvSpPr txBox="1"/>
              <p:nvPr/>
            </p:nvSpPr>
            <p:spPr>
              <a:xfrm>
                <a:off x="1523880" y="3197160"/>
                <a:ext cx="6096240" cy="133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atm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3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97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7" dur="indefinite" restart="never" nodeType="tmRoot">
          <p:childTnLst>
            <p:seq>
              <p:cTn id="1748" dur="indefinite" nodeType="mainSeq">
                <p:childTnLst>
                  <p:par>
                    <p:cTn id="1749" fill="hold">
                      <p:stCondLst>
                        <p:cond delay="0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6" dur="5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15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4.-Dispós no laboratorio das seguintes especies químicas: Zn e Cu metais, trioxonitrato (V) de cinc, trioxonitrato (V) de cobre (II) e trioxonitrato (V) amónico. Constrúe con elas unha cela galvánica, indica os pasos a seguir. Sabendo que 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/ Cu) = 0,34V e 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Z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/ Zn) = -0,76V, ¿poderías predicir a voltaxe que subministraría a túa cel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863640" y="5516640"/>
            <a:ext cx="41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//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  Cu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684360" y="2205000"/>
            <a:ext cx="7920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Preparar 250cc de disolución 1M dos tres s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Nun vaso de pptdos introduciría a disolución do sal de Zn e o Zn metal, coidando que este sobresaia do líquido. Noutro vaso  faría o mesmo co C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Enchería un tubo en U coa sal amónica, taparía as súas bocas con algodón e inverteríao de maneira que cada boca resultase dentro de cada un dos vasos de pptdos ci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Conectaría con fío de cobre ambos metais. Con un galvanómetro no circuíto mediría a intensidade de corrente ou con un voltímetro comprobaría a volta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4788000" y="55166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0,34 – ( -0,76) = 1,1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0" dur="indefinite" restart="never" nodeType="tmRoot">
          <p:childTnLst>
            <p:seq>
              <p:cTn id="1761" dur="indefinite" nodeType="mainSeq">
                <p:childTnLst>
                  <p:par>
                    <p:cTn id="1762" fill="hold">
                      <p:stCondLst>
                        <p:cond delay="0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7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76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8" fill="hold">
                            <p:stCondLst>
                              <p:cond delay="27000"/>
                            </p:stCondLst>
                            <p:childTnLst>
                              <p:par>
                                <p:cTn id="17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164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5.-Realiza un esquema dunha pila na que participen os semipares Z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M)/Zn e 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M)/Cu. ¿Que tipo de especie química utilizarías para a construcción da ponte salina? Si os potenciais normais de ámbolos dous semipares son respectivamente -0,76V e 0,34V indica qué electrodo actuará como ánodo e cal como cátod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684360" y="2349360"/>
            <a:ext cx="41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//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  Cu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0"/>
          <p:cNvSpPr/>
          <p:nvPr/>
        </p:nvSpPr>
        <p:spPr>
          <a:xfrm>
            <a:off x="611280" y="3716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0,34 – ( -0,76) = 1,1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1"/>
          <p:cNvSpPr/>
          <p:nvPr/>
        </p:nvSpPr>
        <p:spPr>
          <a:xfrm>
            <a:off x="611280" y="2852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onstruiría a ponte salina con o sal dun catión que non fora de cobre nin de c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2"/>
          <p:cNvSpPr/>
          <p:nvPr/>
        </p:nvSpPr>
        <p:spPr>
          <a:xfrm>
            <a:off x="684360" y="4292640"/>
            <a:ext cx="741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ánodo é o electrodo no que ten lugar a oxidación, o de c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cátodo é o electrodo no que ten lugar a reducción, o de co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1" dur="indefinite" restart="never" nodeType="tmRoot">
          <p:childTnLst>
            <p:seq>
              <p:cTn id="1782" dur="indefinite" nodeType="mainSeq">
                <p:childTnLst>
                  <p:par>
                    <p:cTn id="1783" fill="hold">
                      <p:stCondLst>
                        <p:cond delay="0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9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6.-¿Que ocorrería se a unha disolución de sulfato de cobre (II) lle engadimos anacos de cinc? e ¿Que ocorrería se a unha disolución de sulfato de ferro (II) lle engadimos limaduras de cobre?  </a:t>
            </a:r>
            <a:br>
              <a:rPr sz="20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atos: potenciales de reducción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Cu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+0,34 V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76 V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Fe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4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611280" y="3284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primeiro caso o cinc metálico é oxidado polo catión cobre. Ao ser maior o potencial de reducción do cobre, este é o que se redu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611280" y="438480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segundo caso o cobre metálico non é oxidado polo catión ferro. Ao ser menor o potencial de reducción do ferro que o do cobre, o ferro non pode reducirse a costa de oxidar ao cobre me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6" dur="indefinite" restart="never" nodeType="tmRoot">
          <p:childTnLst>
            <p:seq>
              <p:cTn id="1797" dur="indefinite" nodeType="mainSeq">
                <p:childTnLst>
                  <p:par>
                    <p:cTn id="1798" fill="hold">
                      <p:stCondLst>
                        <p:cond delay="0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7.-Trátase unha barra de ferro con HCl ¿Oxídarase a F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? . En caso afirmativo escribir a reacción red-ox que ten lugar  </a:t>
            </a:r>
            <a:br>
              <a:rPr sz="20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atos: potenciales de reducción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Fe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4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539640" y="263700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potencial de reducción do hidróxeno é 0 &gt; -0,44 polo tanto que se reduce é o hidróxeno, e o ferro oxídase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611280" y="3716280"/>
            <a:ext cx="748980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redox será a suma das semireaccións de reducción e de oxi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+ 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ue en forma molecular res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+ 2HCl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5" dur="indefinite" restart="never" nodeType="tmRoot">
          <p:childTnLst>
            <p:seq>
              <p:cTn id="1806" dur="indefinite" nodeType="mainSeq">
                <p:childTnLst>
                  <p:par>
                    <p:cTn id="1807" fill="hold">
                      <p:stCondLst>
                        <p:cond delay="0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1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8.-Realiza o esquema dunha cela na que ten lugar a descomposición electrolítica da auga. Indica a natureza dos gases xerados no ánodo e no cátodo.Calcula o volume de H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edido en c.n. que se obtén ao paso de 1F.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39640" y="3789360"/>
            <a:ext cx="74898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ous moles de electróns desprenden 1 mol (=22,4l) de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96500C desprenden medio mol 11,2 litros de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9"/>
          <p:cNvGrpSpPr/>
          <p:nvPr/>
        </p:nvGrpSpPr>
        <p:grpSpPr>
          <a:xfrm>
            <a:off x="468360" y="1916280"/>
            <a:ext cx="7489800" cy="1315080"/>
            <a:chOff x="468360" y="1916280"/>
            <a:chExt cx="7489800" cy="1315080"/>
          </a:xfrm>
        </p:grpSpPr>
        <p:sp>
          <p:nvSpPr>
            <p:cNvPr id="510" name="Text Box 3"/>
            <p:cNvSpPr/>
            <p:nvPr/>
          </p:nvSpPr>
          <p:spPr>
            <a:xfrm>
              <a:off x="468360" y="1916280"/>
              <a:ext cx="7489800" cy="13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ÁNODO    Oxidación    2 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O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  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+  4H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+  4e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CÁTODO  Reducción:   4H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 +  4e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2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Reacción     2 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O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+  2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5"/>
            <p:cNvSpPr/>
            <p:nvPr/>
          </p:nvSpPr>
          <p:spPr>
            <a:xfrm flipV="1">
              <a:off x="4284720" y="1916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6"/>
            <p:cNvSpPr/>
            <p:nvPr/>
          </p:nvSpPr>
          <p:spPr>
            <a:xfrm flipV="1">
              <a:off x="5003640" y="2349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7"/>
            <p:cNvSpPr/>
            <p:nvPr/>
          </p:nvSpPr>
          <p:spPr>
            <a:xfrm flipV="1">
              <a:off x="4716360" y="2708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8"/>
            <p:cNvSpPr/>
            <p:nvPr/>
          </p:nvSpPr>
          <p:spPr>
            <a:xfrm flipV="1">
              <a:off x="3995640" y="2708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4" dur="indefinite" restart="never" nodeType="tmRoot">
          <p:childTnLst>
            <p:seq>
              <p:cTn id="1815" dur="indefinite" nodeType="mainSeq">
                <p:childTnLst>
                  <p:par>
                    <p:cTn id="1816" fill="hold">
                      <p:stCondLst>
                        <p:cond delay="0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afterEffect" fill="hold" presetClass="entr" presetID="2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0" dur="5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2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9.-Das seguintes ecuacións químicas indica cal é un proceso red-ox, e nel que se oxida, que se reduce, quen é o oxidante e cal o re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539640" y="3789360"/>
            <a:ext cx="7489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cloro redúcese a cloruro (diminúe o nº de o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bromuro oxídase a b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oxidante é o cloro, capaz de oxidar ao b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reductor é o bromuro xa que reduce ao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539640" y="1773360"/>
            <a:ext cx="74898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HCl Non hai cambios nos números de 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HCl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 Non hai cambios nos números de 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NaBr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B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Na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7"/>
          <p:cNvSpPr/>
          <p:nvPr/>
        </p:nvSpPr>
        <p:spPr>
          <a:xfrm flipV="1">
            <a:off x="2771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4" dur="indefinite" restart="never" nodeType="tmRoot">
          <p:childTnLst>
            <p:seq>
              <p:cTn id="1825" dur="indefinite" nodeType="mainSeq">
                <p:childTnLst>
                  <p:par>
                    <p:cTn id="1826" fill="hold">
                      <p:stCondLst>
                        <p:cond delay="0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17600"/>
            <a:ext cx="914400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2.-Axusta polo método do ión-electrón, as seguintes ecuació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84720" y="1196640"/>
            <a:ext cx="41148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427640" y="2649600"/>
            <a:ext cx="37432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 2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356000" y="3429000"/>
            <a:ext cx="47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635280" y="4437000"/>
            <a:ext cx="5508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95280" y="270828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se o osíxeno engadindo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395280" y="1700280"/>
            <a:ext cx="36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grupo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S libre oxída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5003640" y="1773360"/>
            <a:ext cx="360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395280" y="3429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se o hidróxeno con H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395280" y="4437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nse as cargas con 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395280" y="5373720"/>
            <a:ext cx="33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icamos por un nú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al que iguale os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3635280" y="5373720"/>
            <a:ext cx="50054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0.-Comenta as seguintes afirmacións indicando , de forma razoada, se che parecen correctas ou corrixíndoas no seu ca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468360" y="300348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Condicións estándar referidas a unha cela electroquímica, implican sempre concentracións 1M para especies iónicas en disolu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539640" y="177336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Nunha cela electroquímica a oxidación ten sempre lugar no án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468360" y="465948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Toda reacción red-ox que en condicións estándar transcorren espontaneamente, presenta unha Eº 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7"/>
          <p:cNvSpPr/>
          <p:nvPr/>
        </p:nvSpPr>
        <p:spPr>
          <a:xfrm>
            <a:off x="1187280" y="2133720"/>
            <a:ext cx="74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ánodo da cela os anións A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º  oxída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8"/>
          <p:cNvSpPr/>
          <p:nvPr/>
        </p:nvSpPr>
        <p:spPr>
          <a:xfrm>
            <a:off x="1258920" y="3860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 especies iónicas en disolución son mais que as que entran no proceso red-ox, o enunciado non é corr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1258920" y="5300640"/>
            <a:ext cx="7489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pil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n espontáneas aquelas reaccións nas que E &gt; 0, así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&lt; 0, que é  a condición de espontane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0" dur="indefinite" restart="never" nodeType="tmRoot">
          <p:childTnLst>
            <p:seq>
              <p:cTn id="1831" dur="indefinite" nodeType="mainSeq">
                <p:childTnLst>
                  <p:par>
                    <p:cTn id="1832" fill="hold">
                      <p:stCondLst>
                        <p:cond delay="0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37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40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43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80000"/>
                            </p:stCondLst>
                            <p:childTnLst>
                              <p:par>
                                <p:cTn id="1846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1.-Contesta: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Podemos utilizar calquera reacción redox de forma controlada como unha pila electroquímica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nto vale a fem dunha pila cando o proceso químico está en situación de equilibrio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Que teñen en común as pilas e as electrólises?¿En que se diferencian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nto vale </a:t>
            </a: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G nunha electrólise?</a:t>
            </a: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Que reacción ten lugar no cátodo?</a:t>
            </a: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Para un oxidante concreto a cantidade de materia que representa un equivalente gramo. ¿Ten sempre un valor únic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468360" y="256536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eq. F.e.m.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324000" y="141300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empre que 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exa distinto de 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611280" y="3500280"/>
            <a:ext cx="799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omun: poseer ánodo e catodo. A enerxía manifestase en forma eléct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iferencia: Na polaridade dos electrodos e no signo de ∆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755640" y="4653000"/>
            <a:ext cx="799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cu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8"/>
          <p:cNvSpPr/>
          <p:nvPr/>
        </p:nvSpPr>
        <p:spPr>
          <a:xfrm>
            <a:off x="684360" y="5300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catodo ten lugar a re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755640" y="6308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,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,  ou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Varía o valor do equivalente gr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8" dur="indefinite" restart="never" nodeType="tmRoot">
          <p:childTnLst>
            <p:seq>
              <p:cTn id="1849" dur="indefinite" nodeType="mainSeq">
                <p:childTnLst>
                  <p:par>
                    <p:cTn id="1850" fill="hold">
                      <p:stCondLst>
                        <p:cond delay="0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55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58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61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80000"/>
                            </p:stCondLst>
                            <p:childTnLst>
                              <p:par>
                                <p:cTn id="1864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495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2.-Considera os seguintes potenciais estándar de reducción Eº(Cl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Cl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) = 1,36V  ;  Eº(I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I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) = 0,52V. Indica razoadamente: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das especies químicas presenta maior poder oxidante?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é a mais reductora?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será o proceso red-ox que en condicións estándar, poderá ter lug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684360" y="25574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mais reductor é o i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684360" y="140652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mais oxidante é o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755640" y="429264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½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½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6" dur="indefinite" restart="never" nodeType="tmRoot">
          <p:childTnLst>
            <p:seq>
              <p:cTn id="1867" dur="indefinite" nodeType="mainSeq">
                <p:childTnLst>
                  <p:par>
                    <p:cTn id="1868" fill="hold">
                      <p:stCondLst>
                        <p:cond delay="0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3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76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22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4.-Dada a pila   Cu(s)   +  S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 (aq)    </a:t>
            </a:r>
            <a:r>
              <a:rPr b="1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aq)   +   S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aq)  Eº= -0,19V na que tanto productos como reactivos están en condicións estándar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Calcula a variación da enerxía libre 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b)Determina se a reacción é espontánea de esquerda a dereita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c)Calcula o potencial de reducción do cinc introducido nunha disolución 0,01M de sulfato de cinc (Eº = -0,76 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39640" y="2878200"/>
            <a:ext cx="74898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cuba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= 2 x 96500 x 0,19 = 36670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539640" y="35258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G &gt; 0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 pila non é espontá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539640" y="424656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)   Zn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+2e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8"/>
              <p:cNvSpPr txBox="1"/>
              <p:nvPr/>
            </p:nvSpPr>
            <p:spPr>
              <a:xfrm>
                <a:off x="826920" y="4678200"/>
                <a:ext cx="770436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n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,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98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650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8" dur="indefinite" restart="never" nodeType="tmRoot">
          <p:childTnLst>
            <p:seq>
              <p:cTn id="1879" dur="indefinite" nodeType="mainSeq">
                <p:childTnLst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5.-Dada a pila  Mg / M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(10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)  //   A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0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)/ Ag . Cos datos   Eº (M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Mg)= -2,37V e Eº(A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Ag)=0,8V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Escribir as semireaccións correspondentes aos dous electrodos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b)Escribir a reacción global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c)Calcula o potencial de cada electrodo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d) Calcula a f.e.m. da p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466560" y="2205000"/>
            <a:ext cx="749016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Ánodo, oxidación:   Mg (s)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M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átodo, reducción:  Ag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+ 1e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468360" y="30686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b)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g  + 2 A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Ag  + M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468360" y="342900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Object 6"/>
              <p:cNvSpPr txBox="1"/>
              <p:nvPr/>
            </p:nvSpPr>
            <p:spPr>
              <a:xfrm>
                <a:off x="1116000" y="3357720"/>
                <a:ext cx="7920000" cy="28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l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átodo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ánodo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num>
                          <m:den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g</m:t>
                                        </m:r>
                                      </m:e>
                                      <m:sup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l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9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7" name="Text Box 7"/>
          <p:cNvSpPr/>
          <p:nvPr/>
        </p:nvSpPr>
        <p:spPr>
          <a:xfrm>
            <a:off x="468360" y="573408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6" dur="indefinite" restart="never" nodeType="tmRoot">
          <p:childTnLst>
            <p:seq>
              <p:cTn id="1897" dur="indefinite" nodeType="mainSeq">
                <p:childTnLst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6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6.-Calcula o peso equivalente dos oxidantes nos seguintes proceso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95280" y="155736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) Dicromato potásico cando se reduce a Cr(I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395280" y="270828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) Permanganato potásico cando se reduce a Mn(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395280" y="3933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) Ácido nítrico cando se reduc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971640" y="213372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6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7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971640" y="314172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8"/>
          <p:cNvSpPr/>
          <p:nvPr/>
        </p:nvSpPr>
        <p:spPr>
          <a:xfrm>
            <a:off x="755640" y="324468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5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826920" y="4508640"/>
            <a:ext cx="669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NO   +  2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8" dur="indefinite" restart="never" nodeType="tmRoot">
          <p:childTnLst>
            <p:seq>
              <p:cTn id="1919" dur="indefinite" nodeType="mainSeq">
                <p:childTnLst>
                  <p:par>
                    <p:cTn id="1920" fill="hold">
                      <p:stCondLst>
                        <p:cond delay="0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3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3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9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7.- Ao efectuarse a electrólise dunha disolución de ácido clorhídrico despréndese cloro no ánodo. ¿Que volume de cloro a 1atm se desprenderá ó pasar unha corrente de 10 A durante unha ho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395280" y="1844640"/>
            <a:ext cx="7993080" cy="25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Cl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ous moles de electróns desprenden un mol de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x 96.500 C  desprenden 22´4 litros de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carga da que se dispón é: Q = I.t = 10 A . 1h  =  10C/s .3600s  = 36000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ue desprenderá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Object 6"/>
              <p:cNvSpPr txBox="1"/>
              <p:nvPr/>
            </p:nvSpPr>
            <p:spPr>
              <a:xfrm>
                <a:off x="2556000" y="3716280"/>
                <a:ext cx="3240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000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´</m:t>
                        </m:r>
                        <m:r>
                          <m:t xml:space="preserve">4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96500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´</m:t>
                    </m:r>
                    <m:r>
                      <m:t xml:space="preserve">1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6" dur="indefinite" restart="never" nodeType="tmRoot">
          <p:childTnLst>
            <p:seq>
              <p:cTn id="1937" dur="indefinite" nodeType="mainSeq">
                <p:childTnLst>
                  <p:par>
                    <p:cTn id="1938" fill="hold">
                      <p:stCondLst>
                        <p:cond delay="0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4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5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5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8.-Temos dúas vasillas, unha contendo unha disolución de nitrato de prata e outra con ácido sulfúrico diluído. Ao pasar a corrente eléctrica simultaneamente a través de ámbalas dúas disolucións, na 1ª se depositan 0,093 g de prata e na segunda se desprenden 9´6ml de hidróxeno, medidos en condicións normais. ¿Cal é a masa atómica da pr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395280" y="2381400"/>
            <a:ext cx="42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g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F  depositan 1 mol ( x g) de p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5292720" y="2381400"/>
            <a:ext cx="34560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 desprenden 22´4 li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7"/>
              <p:cNvSpPr txBox="1"/>
              <p:nvPr/>
            </p:nvSpPr>
            <p:spPr>
              <a:xfrm>
                <a:off x="1763640" y="3429000"/>
                <a:ext cx="56023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´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l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den>
                    </m:f>
                    <m:f>
                      <m:num>
                        <m:r>
                          <m:t xml:space="preserve">2</m:t>
                        </m:r>
                        <m:r>
                          <m:t xml:space="preserve">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´</m:t>
                        </m:r>
                        <m:r>
                          <m:t xml:space="preserve">4</m:t>
                        </m:r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´</m:t>
                    </m:r>
                    <m:r>
                      <m:t xml:space="preserve">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3" name="Text Box 9"/>
          <p:cNvSpPr/>
          <p:nvPr/>
        </p:nvSpPr>
        <p:spPr>
          <a:xfrm>
            <a:off x="684360" y="472428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abendo que 8´6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oles de prata son 0´093 gramos, deducimos que a masa de un mol será 108´5 g de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7" dur="indefinite" restart="never" nodeType="tmRoot">
          <p:childTnLst>
            <p:seq>
              <p:cTn id="1958" dur="indefinite" nodeType="mainSeq">
                <p:childTnLst>
                  <p:par>
                    <p:cTn id="1959" fill="hold">
                      <p:stCondLst>
                        <p:cond delay="0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9.-Vaise a pratear electroquimicamente unha superficie metálica de 12,5cm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, ata conseguir un recubrimento de 1mm de grosor, utilizando unha corrente de 0,5A. A densidade da prata é 10,5 g/cm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, e a súa masa atómica 108. Calcular: a cantidade de electricidade neces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395280" y="2381400"/>
            <a:ext cx="42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g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F  depositan 1 mol de p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3635280" y="2381400"/>
            <a:ext cx="5113440" cy="25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12,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x1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 =1,2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1,2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.10,5. 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kg/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13,125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0,12 m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= 0,12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= Q/I = 0,12. 96500C / 0,5A = 2316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= 6h 26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0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418680"/>
            <a:ext cx="9144000" cy="106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0.-Na electrólise dunha sal de ouro descoñecida obtivéronse 3,09 g de ouro facendo pasar 4550C. ¿Cal é o equivalente do ouro nesa s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5"/>
              <p:cNvSpPr txBox="1"/>
              <p:nvPr/>
            </p:nvSpPr>
            <p:spPr>
              <a:xfrm>
                <a:off x="1523880" y="2425680"/>
                <a:ext cx="6096240" cy="28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7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6</m:t>
                        </m:r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550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47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m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Axusta (continu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11640" y="764640"/>
            <a:ext cx="41148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95280" y="2133720"/>
            <a:ext cx="79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0" y="170028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395280" y="3429000"/>
            <a:ext cx="684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395280" y="4005360"/>
            <a:ext cx="79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1116000" y="5373720"/>
            <a:ext cx="5256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0" y="30621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implifícase a ecuación ión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0" y="486900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edúcese a ecuación mole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b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95280" y="1273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971640" y="170640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348000" y="1274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395280" y="27147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468360" y="177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4427640" y="17794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466560" y="2138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6659640" y="1274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3995640" y="1274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4930920" y="1268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826920" y="314784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3132000" y="27874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6"/>
          <p:cNvSpPr/>
          <p:nvPr/>
        </p:nvSpPr>
        <p:spPr>
          <a:xfrm>
            <a:off x="539640" y="32907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0"/>
          <p:cNvSpPr/>
          <p:nvPr/>
        </p:nvSpPr>
        <p:spPr>
          <a:xfrm>
            <a:off x="4788000" y="2787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1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por catro  a 2ª semireacción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2"/>
          <p:cNvSpPr/>
          <p:nvPr/>
        </p:nvSpPr>
        <p:spPr>
          <a:xfrm>
            <a:off x="250920" y="422604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Fe  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4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250920" y="473076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Fe  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4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4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5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Fe(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1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8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9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c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95280" y="1273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971640" y="170640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348000" y="1274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95280" y="27147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468360" y="177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427640" y="17794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466560" y="2138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659640" y="1274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3995640" y="1274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4930920" y="1268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826920" y="314784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3132000" y="27874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539640" y="3141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4788000" y="2787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oito, e á 1ª por tre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250920" y="4357800"/>
            <a:ext cx="76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Fe  +  3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0"/>
          <p:cNvSpPr/>
          <p:nvPr/>
        </p:nvSpPr>
        <p:spPr>
          <a:xfrm>
            <a:off x="250920" y="486252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Fe  +  3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8 Fe(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8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3500"/>
                            </p:stCondLst>
                            <p:childTnLst>
                              <p:par>
                                <p:cTn id="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7500"/>
                            </p:stCondLst>
                            <p:childTnLst>
                              <p:par>
                                <p:cTn id="1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9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8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6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9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d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O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6659640" y="1058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3132000" y="2571840"/>
            <a:ext cx="511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539640" y="2925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3490920" y="2565360"/>
            <a:ext cx="13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oito, e á 2ª por tre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NO  +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6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250920" y="486252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NO  +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8 NO 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4500720" y="2924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4"/>
          <p:cNvSpPr/>
          <p:nvPr/>
        </p:nvSpPr>
        <p:spPr>
          <a:xfrm>
            <a:off x="5867280" y="2565360"/>
            <a:ext cx="11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539640" y="3284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6"/>
          <p:cNvSpPr/>
          <p:nvPr/>
        </p:nvSpPr>
        <p:spPr>
          <a:xfrm>
            <a:off x="694836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4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9500"/>
                            </p:stCondLst>
                            <p:childTnLst>
                              <p:par>
                                <p:cTn id="2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1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8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3500"/>
                            </p:stCondLst>
                            <p:childTnLst>
                              <p:par>
                                <p:cTn id="2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2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7500"/>
                            </p:stCondLst>
                            <p:childTnLst>
                              <p:par>
                                <p:cTn id="2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9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4500"/>
                            </p:stCondLst>
                            <p:childTnLst>
                              <p:par>
                                <p:cTn id="2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6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1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6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15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4500"/>
                            </p:stCondLst>
                            <p:childTnLst>
                              <p:par>
                                <p:cTn id="3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65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8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6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9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e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95280" y="105732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O + 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348000" y="1058760"/>
            <a:ext cx="51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644364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3851280" y="2565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5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6"/>
          <p:cNvSpPr/>
          <p:nvPr/>
        </p:nvSpPr>
        <p:spPr>
          <a:xfrm>
            <a:off x="5508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7"/>
          <p:cNvSpPr/>
          <p:nvPr/>
        </p:nvSpPr>
        <p:spPr>
          <a:xfrm>
            <a:off x="250920" y="479124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8"/>
          <p:cNvSpPr/>
          <p:nvPr/>
        </p:nvSpPr>
        <p:spPr>
          <a:xfrm>
            <a:off x="971640" y="5734080"/>
            <a:ext cx="748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O + 6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7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4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9500"/>
                            </p:stCondLst>
                            <p:childTnLst>
                              <p:par>
                                <p:cTn id="3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1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8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3500"/>
                            </p:stCondLst>
                            <p:childTnLst>
                              <p:par>
                                <p:cTn id="3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55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2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7500"/>
                            </p:stCondLst>
                            <p:childTnLst>
                              <p:par>
                                <p:cTn id="3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5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25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4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25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2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f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 +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oxídase a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65964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Zn + 8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9500"/>
                            </p:stCondLst>
                            <p:childTnLst>
                              <p:par>
                                <p:cTn id="44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15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85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3500"/>
                            </p:stCondLst>
                            <p:childTnLst>
                              <p:par>
                                <p:cTn id="4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55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25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7500"/>
                            </p:stCondLst>
                            <p:childTnLst>
                              <p:par>
                                <p:cTn id="4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5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7500"/>
                            </p:stCondLst>
                            <p:childTnLst>
                              <p:par>
                                <p:cTn id="4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95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15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95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95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5:41:23Z</dcterms:created>
  <dc:creator>PARTICULAR</dc:creator>
  <dc:description/>
  <dc:language>en-US</dc:language>
  <cp:lastModifiedBy>PROFESORADO</cp:lastModifiedBy>
  <dcterms:modified xsi:type="dcterms:W3CDTF">2012-12-05T12:34:40Z</dcterms:modified>
  <cp:revision>33</cp:revision>
  <dc:subject/>
  <dc:title>Reaccións de oxidación reducción</dc:title>
</cp:coreProperties>
</file>